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4AD-085F-4EBE-BFF3-6D17F5C9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A1E-95C9-4840-B278-00D101F5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03E-AD40-4EC9-8B3F-942AF02D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D6D-6CA1-4B0A-AAE8-2A91D00A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760-4E2F-4A2B-8027-62D76D6D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7D4-21F6-4955-BC5F-2BD4F1D0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BB5-9637-4D06-BBBB-82667279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725-7C30-4BFE-A297-39FA4752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9D4-BC7F-45B9-B57D-A6A49B9F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E35-FF08-401B-80FD-F0DBF8D5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2C9-BCCA-4156-B811-23A22DE2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B30-0601-4BCD-8EA0-C32E08FB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FA3D-D40F-4485-84D6-D4193EA3C0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FAD4-160F-4127-97FC-E17136BBF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oon 3"/>
          <p:cNvSpPr/>
          <p:nvPr/>
        </p:nvSpPr>
        <p:spPr>
          <a:xfrm>
            <a:off x="304920" y="1295280"/>
            <a:ext cx="297180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5"/>
          <p:cNvSpPr/>
          <p:nvPr/>
        </p:nvSpPr>
        <p:spPr>
          <a:xfrm>
            <a:off x="1828800" y="3276720"/>
            <a:ext cx="632448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oon 6"/>
          <p:cNvSpPr/>
          <p:nvPr/>
        </p:nvSpPr>
        <p:spPr>
          <a:xfrm>
            <a:off x="8001000" y="2743200"/>
            <a:ext cx="7621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2133720" y="609480"/>
            <a:ext cx="1981080" cy="26784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200400" y="152280"/>
            <a:ext cx="251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ndwri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(Handwriting without Tears Screener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 flipV="1">
            <a:off x="4648320" y="609120"/>
            <a:ext cx="1981080" cy="26672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5791320" y="152280"/>
            <a:ext cx="312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phabetic Principle: Spell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Core Phonics, Words their Wa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5867280" y="5867280"/>
            <a:ext cx="312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ritten Compo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Writing CBM with Rubric 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37339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Writing CBM CWS, Grammar Assess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5"/>
          <p:cNvSpPr/>
          <p:nvPr/>
        </p:nvSpPr>
        <p:spPr>
          <a:xfrm flipH="1" flipV="1">
            <a:off x="4724280" y="3276360"/>
            <a:ext cx="1447920" cy="25146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7391520" y="3352680"/>
            <a:ext cx="1371600" cy="24386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3886200" y="685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5867280" y="137160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Orthographic errors on spell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honologic errors on spell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1905120" y="335268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CBM C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2590920" y="3809880"/>
            <a:ext cx="2590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Spee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/Predicate Ident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ence typ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ence Ident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ax CLOZ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9"/>
          <p:cNvSpPr/>
          <p:nvPr/>
        </p:nvSpPr>
        <p:spPr>
          <a:xfrm>
            <a:off x="5562720" y="3505320"/>
            <a:ext cx="198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Co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Organ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Style and Fl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guage Us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1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228600" y="51814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5335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ing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2"/>
          <p:cNvSpPr/>
          <p:nvPr/>
        </p:nvSpPr>
        <p:spPr>
          <a:xfrm>
            <a:off x="3124080" y="1828800"/>
            <a:ext cx="190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tn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cil G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3"/>
          <p:cNvSpPr/>
          <p:nvPr/>
        </p:nvSpPr>
        <p:spPr>
          <a:xfrm>
            <a:off x="6324480" y="838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al Stage of Spell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7"/>
          <p:cNvSpPr/>
          <p:nvPr/>
        </p:nvSpPr>
        <p:spPr>
          <a:xfrm>
            <a:off x="5486400" y="190512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bet Ski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and Deco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Skil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2:32:23Z</dcterms:created>
  <dc:creator>Robert Frantum-Allen</dc:creator>
  <dc:description/>
  <dc:language>en-US</dc:language>
  <cp:lastModifiedBy>Jamie Spears</cp:lastModifiedBy>
  <dcterms:modified xsi:type="dcterms:W3CDTF">2012-04-08T17:24:49Z</dcterms:modified>
  <cp:revision>36</cp:revision>
  <dc:subject/>
  <dc:title>Slide 1</dc:title>
</cp:coreProperties>
</file>